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47B-BFF4-49F2-8037-99376396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4BB-71B1-4D52-ABA3-38CBB82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1FF-CBDF-4678-88CD-D5067D78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C2F-7F6C-4CF6-813D-134CC850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7F6-FD7B-4A33-959B-6A67A3B2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4D0-EDF4-47DD-BCC1-FC6BD31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A6B-1815-4FA2-8F79-E2B830C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8527-4EEA-4567-964B-7F03F51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882-7E4C-4DE5-9C71-A3A70D2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20A-84F5-42FF-9A2A-BD9AB9C5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DD17-D2F6-4863-B247-2114725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D4C-76C1-435C-BAD8-56014D8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EBF2-D824-421C-A699-B185143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1B11-2977-4667-A825-BCD6617E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37E-F5E9-40D6-A7D3-F2EAD2B7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E10-4DA9-4967-A8BF-887B55EE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B90-D628-45B6-98F5-4A0652CB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236-5453-4C54-BF15-90D4D33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6B2-A061-4D28-8B52-59C1772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D0D-FC3E-4CB8-94E3-E2D441D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ED8-18DE-4D21-BCEF-5BD7C10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174-8D23-4E94-853C-AE44C74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459-5D63-4753-A1D5-70EF264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28D-2609-4E22-9AFD-0DC081C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328-A370-45AA-9556-B8943CFA6ED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FF4-AA53-4AC1-B73E-C3EAC86938D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search 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differently Traditional Chinese Medicine and Western Medicine work to cure illness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mpare Traditional Chinese Medicine and Western Medic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 educate my classmates about TCM and W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ypothe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Traditional Chinese Medicine is safer than Western Medicin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966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ev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1905120"/>
          <a:ext cx="640080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33676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Aspir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Ling Y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alicylic Aci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ntelope’s Hor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lts the infection that causes the body to heat up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ures heatiness that causes feve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lcers, stomach bleed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2462040"/>
                <a:gridCol w="2462040"/>
                <a:gridCol w="24620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– Panadol for Cold and Flu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Sang Ju Yin Pia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aracetamol, Caffei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hrysanthemum, Apricot seed, Mulberry leave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st relief from cold and flu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lts the cold virus from spread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rms the liver with tox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ew advers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inkill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2462040"/>
                <a:gridCol w="2462040"/>
                <a:gridCol w="24620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Voltare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- Acupunctur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clofinac Sodiu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cupuncture needles made of very thin sterile steel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rings out a cool sensation to relieve pain and feve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e needles, after put into the body, cause warmth to relieve pa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e user tends to eat a lo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th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2462040"/>
                <a:gridCol w="2462040"/>
                <a:gridCol w="24620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Prednisolo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Ping Chuan Wa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rtex Mori, Gecko, Phlogopitu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elps to cure the inflammatory virus that causes asthma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rengthens lungs and reduces phleg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 skin, swelling of body, stomach tensio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omach ach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562280"/>
        </p:xfrm>
        <a:graphic>
          <a:graphicData uri="http://schemas.openxmlformats.org/drawingml/2006/table">
            <a:tbl>
              <a:tblPr/>
              <a:tblGrid>
                <a:gridCol w="2462040"/>
                <a:gridCol w="2462400"/>
                <a:gridCol w="2462040"/>
              </a:tblGrid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Plaquenil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Baohe Wa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ydroxchloroquine Sulfat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oria, Fructus Crataegi, Fructus Forsythra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elps to reduce stomach aches and improves Arthritis situation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t stimulates digestion, removes retained food and regulates the stomach functio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 sk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have concluded that TCM is safer than WM because TCM has lesser side effects than W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fore, I would like to present an alternative treatment to the common ailments because I think it is mor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also because I strongly believe that TCM can strengthen their health and provide a more natural healing process than W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4:28:00Z</dcterms:created>
  <dc:creator>Rosyth School</dc:creator>
  <dc:description/>
  <dc:language>en-US</dc:language>
  <cp:lastModifiedBy>Rosyth School</cp:lastModifiedBy>
  <dcterms:modified xsi:type="dcterms:W3CDTF">2010-11-29T05:49:00Z</dcterms:modified>
  <cp:revision>3</cp:revision>
  <dc:subject/>
  <dc:title>Fever</dc:title>
</cp:coreProperties>
</file>